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-Amylase-Aktivität ↓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oder nicht-signifik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rhöht unter 5000 IU/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360" y="549360"/>
            <a:ext cx="74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α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-Amylase-Aktivität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↓ (oder nicht-signifikant erhöht unter 5000 IU/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640" y="6153480"/>
            <a:ext cx="273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U = internationale Einheite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 = Lit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54:14Z</dcterms:modified>
  <cp:revision>335</cp:revision>
  <dc:subject/>
  <dc:title>Vorstellung einer Neuheit</dc:title>
</cp:coreProperties>
</file>